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0635-AF7C-4211-8373-36D6889EA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1382-C57E-49F3-8822-C8252C1BEB0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2F2C-B905-4AB0-A22F-FA08FE2EE3E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DD7FA-0C6F-4E46-8439-6A82804016B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049A7-6DDE-479D-809C-9A60FFFC83B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28E81-9C7B-42DC-B30B-DEEBC7FF6E3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6AB43-5A89-401C-B020-58AFF7E3852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378E2-C2BB-43E2-B4C8-F60FC0FFF32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E4AE6-40F8-4121-BE19-51557FC008E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EF47-5AA9-46DA-BD30-23F90312D49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BF447-353A-43FA-A19F-F262B0A7A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FE65-A653-4D27-9A50-D8577E9BF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2FAAF-6533-4200-AAA5-5ADE4858A4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57C77-13A0-4A3A-8A4A-554862A496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A831-60B9-47A1-B16F-3FEDB4B211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78D7-F7BF-4F94-911E-189D9594E7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0935-790C-458E-84E7-6118AB5A73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E96E3-8591-4203-A50E-DECC305133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76AF-1336-4EB6-B003-A2505C30B6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9D812-6CA5-4006-83FA-4B0588CDDB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1A24-0BBC-4270-B7F9-EECBDCE3E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54C71-2508-47C6-A701-C4EEC1B281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CBD17-5DFD-4619-AFB1-1D368B1FC6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39A59-2E8F-497D-A066-FE2ABEBF34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30CC-BC7B-4F96-B0E9-62B9BAF30C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5AE8-9CE1-464F-9900-CB70B44176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6EE-C439-4357-91E3-C80EDCCA95B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F86-2107-40D7-9C99-E67C2B8E24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5F7-ABB2-477C-8E27-A8AC231ED3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18D-04A1-4C48-BEA6-11F457541F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F78-EE34-4B49-AC25-6F6B5DCDF5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3857-51A5-4E32-8907-48B15C80A9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D52-8A71-413B-AE00-9F5E1E79BB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F48-F407-4312-AE6A-3DA5CCD117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335-FC17-45A7-A343-E43CDAD0F7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C871-A4A0-451B-8825-D56625B9EE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23A-9307-41D9-9373-1EBAA679845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01C-AA0D-473C-9181-4CB507F9DD6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E41A-8A5B-4C39-9815-018FF21E25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D276B-204B-4B04-AAA9-D0E9D34C431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7EFE5-EEFB-46CF-97AA-E1FF571DF2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53D42-1C5C-466E-96E2-1DC792115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058D6-64AD-4C44-AB00-84A8003617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E45AF-C8A8-46AE-A4DF-492F650815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DBE44-4D74-4F48-A2FD-4DB0FF51EE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2DD02-E273-4F00-AF33-4118992B27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5B08BC-D6A3-41A7-8C8B-D2A20162A9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2F741-9CD7-4337-B477-34F6991473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EB287-CCB3-4C71-ADB8-255D4AC992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EFD2C-6BDF-46CA-BB0B-EB5F14C0A9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61583-A6FD-4137-BAF9-F285732C6A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8AE33-5F18-46D7-8015-588DF131CE5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468CB-1721-4991-9168-749C900D3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3CE4-FCD8-4E36-91A2-1968F194F4B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F26F3-5518-4BC4-A879-E2263C7C9B0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07407-55B6-4465-8F75-C73C3857880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CCCA7-A7EE-405E-A7F4-5555DE4A4E7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E7987-90DE-49F9-ACC5-3DA197CFCF4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5C95B-7BAA-4654-8867-16FF7F91BB7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DEC8D-2347-4ED4-B97A-4B6D34E7153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84C09-AB08-496E-B202-0BCDFD8D0DD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A896D-D399-43CD-AC19-2E0DE82E1D6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1CF27-20C4-4D8D-B97A-F27B75C1752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45F38-4156-46FD-827E-298FCD308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95C7-5EC8-4953-BDD6-1EF48810FF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0FEC1-B468-4BE6-8822-B1983AEEE1D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9FA6-4307-49DF-9C06-6BB7FDD7F89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E1EA-8AEF-4B12-98DF-B917DAE1FBC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ED78-5F54-478D-928D-FE9A11CCF4D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51F6-1854-46B6-85F5-2B54BAAF276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C390-ACDE-4913-A4B5-6E10C550198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5B36-59B9-4CD3-9D17-236BA98A1D9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3E4C-CC6C-4B5A-A3EA-8FA30E2FD6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1A36-9C0E-4328-92E6-2C49D643FE1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6762-9602-42C4-AA92-4930CAF1B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3A61-B043-4381-91DE-596DAEEC983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22BB-42B8-4013-94F6-196296E9038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B41C-B6BD-48AC-BE0E-92E3C376141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C58B-F5CD-40EB-9D9B-3485E783773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B37BC8-D30D-40B1-8F7D-B26162B7EBA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FC926F-876D-4257-AFC1-41669FC0F3B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15B5EB-8D52-4ED9-A865-393CCFC3B2D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4652B6-4A4C-4E81-B998-95605824CB2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0E431A-9AD6-4499-9A5A-00EC01C33FB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4FF71F-4B6E-4AAF-A4C7-08AC62721F0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34AFFF-3407-4A75-AEEF-67EE02C0B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6047-95C2-46F1-B02E-DC538A74F5C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0DEA83-2D68-46B0-9EFA-630457CCBEE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A74774-7D35-435C-8849-E2B29B02605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4B1B32-6478-4C0A-A6D4-E7FABE745E6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C112B8-FC70-400B-9E75-3740902445C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91D008-1AD6-4D96-921D-4A47B267F56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90344-25FD-4DBE-B2E1-0D8BF119F9A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7C264-6406-4517-93FA-80ED7694526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05D23-29CD-4567-9702-81988DC9F06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0605F-41A6-4B5E-8F6C-B63F52D3EF2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71C8E-CBB3-4B05-91E0-D0FFBCEE7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3781-3A7D-466D-9029-C8DD1409E9B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47640" y="129960"/>
            <a:ext cx="11709360" cy="99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7ABC4-3EAA-4D5F-A6E5-E1D95113926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6643C-0268-49FA-888B-FBBA0EB830E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8E391-20C9-4F04-B79F-B362A97619F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9A926-5157-4B2B-A471-0679A5D6D5C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47640" y="6180840"/>
            <a:ext cx="1170936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4A9E3-3A82-48E6-A99F-03E0332B356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7760" y="227340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4764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647760" y="6180840"/>
            <a:ext cx="571392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390ACA-FE5A-455F-BC49-A282AD13D5E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0692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565840" y="227340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476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60692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565840" y="6180840"/>
            <a:ext cx="3770280" cy="356796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C3294-2161-473B-84C6-265E473EC94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08C67-FFA3-44DA-9D77-2EE6148335D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4DDC-3F06-4A71-BC62-C4E46379CC3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024F0-A40B-4B6C-920D-C5482EBD2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8ABA-36CE-47E7-B1E0-166055E7C4D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4d05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1E33-D621-43FB-8946-B679A844419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4d05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F103-17D8-4E90-95FA-18CEEDCF02A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4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980A-3967-444A-8224-223CFD76CAA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0720-883E-4BF1-AEE7-33670E957E3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A6E3-CE41-4919-8639-61DE5F9E737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7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DE2A-6191-435B-89E2-8168CF0F3B5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8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9AE8-7B6C-4C9F-A3F0-EEE3BE727B5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9"/>
          </p:nvPr>
        </p:nvSpPr>
        <p:spPr>
          <a:xfrm>
            <a:off x="1065024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E2A3-ADD6-4281-98B6-7C1D4DD57A4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Bell Ringer: 10-8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believe the weighing of the heart was an accurate ceremony for truth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in you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1065060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B38E-D889-4FEA-A8A9-4F34D646F3A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11709360" cy="24066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44fe"/>
                </a:solidFill>
                <a:latin typeface="Arial"/>
              </a:rPr>
              <a:t>Houses for wealthy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6120" y="4901760"/>
            <a:ext cx="1117764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5446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4680" indent="-48744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"/>
              </a:rPr>
              <a:t>Made of bricks and sun dried mud called “adob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4680" indent="-4874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only had little w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4680" indent="-4874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2712"/>
                </a:solidFill>
                <a:latin typeface="Arial"/>
              </a:rPr>
              <a:t>Divided into three areas: a reception area, a hall, and the private quar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4680" indent="-4874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</a:rPr>
              <a:t>The windows and doors on the house were covered with mats to keep out the flies, dust, and he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4680" indent="-487440">
              <a:lnSpc>
                <a:spcPct val="80000"/>
              </a:lnSpc>
              <a:spcBef>
                <a:spcPts val="1100"/>
              </a:spcBef>
              <a:buClr>
                <a:srgbClr val="0044f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</a:rPr>
              <a:t>Inside had wall hangings made of leather, and the floors were covered with t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4680" indent="-4874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re was a room on the roof with three walls where the family slept on hot summer n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098720" y="1969920"/>
            <a:ext cx="10547280" cy="285300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90" name="Rectangle 4"/>
          <p:cNvSpPr/>
          <p:nvPr/>
        </p:nvSpPr>
        <p:spPr>
          <a:xfrm>
            <a:off x="4639680" y="4775040"/>
            <a:ext cx="2450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ilding a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65280" y="0"/>
            <a:ext cx="11709360" cy="162576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44fe"/>
                </a:solidFill>
                <a:latin typeface="Arial"/>
              </a:rPr>
              <a:t>Houses for poor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11368080" cy="40957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 fontScale="89000"/>
          </a:bodyPr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2712"/>
                </a:solidFill>
                <a:latin typeface="Arial"/>
              </a:rPr>
              <a:t>Lived in houses 2-3 stories hig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2712"/>
                </a:solidFill>
                <a:latin typeface="Arial"/>
              </a:rPr>
              <a:t>First Floor : held for busin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2712"/>
                </a:solidFill>
                <a:latin typeface="Arial"/>
              </a:rPr>
              <a:t>Second and Third Floors : the family living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times slept on the roof during the summer to keep coo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2712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2712"/>
                </a:solidFill>
                <a:latin typeface="Arial"/>
              </a:rPr>
              <a:t>Sewage had to be thrown out into pits, the river, or the stre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all people had some furni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ngs you find in a commoners house : A stool, small boxes for jewelry and cosmetics, chests for clothing, pottery jars, and oil lamp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of Egyptians did not have many belongings that had to be hidden so a chest or basket would use plenty of their sp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les were rarely us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0560" indent="-3052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home had a fly catch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1279440" y="5803920"/>
            <a:ext cx="10139400" cy="31035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394" name="Rectangle 4"/>
          <p:cNvSpPr/>
          <p:nvPr/>
        </p:nvSpPr>
        <p:spPr>
          <a:xfrm>
            <a:off x="3611520" y="8970840"/>
            <a:ext cx="423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7960" tIns="0" bIns="0" anchor="t">
            <a:sp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gyptians bringing in furni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Bell Ringer 10-10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pharaoh do you believe is most important to Ancient Egyp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1065060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8DD7-AF07-4C16-96FC-72F71D8CF14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 19: Journal/App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 20: Daily life 2 c-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1065060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B9B5-A72E-4735-A617-763A93BE6BC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7640" y="1425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cient Egyptian </a:t>
            </a:r>
            <a:r>
              <a:rPr b="0" lang="en-US" sz="6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Clothing</a:t>
            </a:r>
            <a:r>
              <a:rPr b="0" lang="en-US" sz="6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2712"/>
                </a:solidFill>
                <a:latin typeface="Arial Bold"/>
                <a:ea typeface="Arial Bold"/>
              </a:rPr>
              <a:t>Main piece of clothing:  Tunic or a long t-shir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7696080" y="3683160"/>
            <a:ext cx="426744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7640" y="220320"/>
            <a:ext cx="11709360" cy="19638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The Tunic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17160" y="2184120"/>
            <a:ext cx="5638680" cy="75690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712"/>
                </a:solidFill>
                <a:latin typeface="Arial Bold"/>
                <a:ea typeface="Arial Bold"/>
              </a:rPr>
              <a:t>Men wore it down to their Kn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9423360" y="4229280"/>
            <a:ext cx="2705040" cy="50115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546120" y="4013280"/>
            <a:ext cx="5308560" cy="530856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6718320" y="2273400"/>
            <a:ext cx="56768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3826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308"/>
                </a:solidFill>
                <a:latin typeface="Arial Bold"/>
                <a:ea typeface="Arial Bold"/>
              </a:rPr>
              <a:t>Women wore it down to their ank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47640" y="415800"/>
            <a:ext cx="11709360" cy="162576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More Clothing…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47640" y="1955520"/>
            <a:ext cx="11709360" cy="73026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d90b00"/>
                </a:solidFill>
                <a:uFillTx/>
                <a:latin typeface="Arial Bold"/>
                <a:ea typeface="Arial Bold"/>
              </a:rPr>
              <a:t>Footwear</a:t>
            </a:r>
            <a:r>
              <a:rPr b="0" lang="en-US" sz="5000" spc="-1" strike="noStrike">
                <a:solidFill>
                  <a:srgbClr val="d90b00"/>
                </a:solidFill>
                <a:latin typeface="Arial Bold"/>
                <a:ea typeface="Arial Bold"/>
              </a:rPr>
              <a:t>: Barefoot or Sandal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d90b00"/>
                </a:solidFill>
                <a:uFillTx/>
                <a:latin typeface="Arial Bold"/>
                <a:ea typeface="Arial Bold"/>
              </a:rPr>
              <a:t>Workers Clothing</a:t>
            </a:r>
            <a:r>
              <a:rPr b="0" lang="en-US" sz="5000" spc="-1" strike="noStrike">
                <a:solidFill>
                  <a:srgbClr val="d90b00"/>
                </a:solidFill>
                <a:latin typeface="Arial Bold"/>
                <a:ea typeface="Arial Bold"/>
              </a:rPr>
              <a:t>: loin cloth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d90b00"/>
                </a:solidFill>
                <a:uFillTx/>
                <a:latin typeface="Arial Bold"/>
                <a:ea typeface="Arial Bold"/>
              </a:rPr>
              <a:t>Wealthy Clothing</a:t>
            </a:r>
            <a:r>
              <a:rPr b="0" lang="en-US" sz="5000" spc="-1" strike="noStrike">
                <a:solidFill>
                  <a:srgbClr val="d90b00"/>
                </a:solidFill>
                <a:latin typeface="Arial Bold"/>
                <a:ea typeface="Arial Bold"/>
              </a:rPr>
              <a:t>: Long Rob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d90b00"/>
                </a:solidFill>
                <a:uFillTx/>
                <a:latin typeface="Arial Bold"/>
                <a:ea typeface="Arial Bold"/>
              </a:rPr>
              <a:t>Priests</a:t>
            </a:r>
            <a:r>
              <a:rPr b="0" lang="en-US" sz="5000" spc="-1" strike="noStrike">
                <a:solidFill>
                  <a:srgbClr val="d90b00"/>
                </a:solidFill>
                <a:latin typeface="Arial Bold"/>
                <a:ea typeface="Arial Bold"/>
              </a:rPr>
              <a:t>: Leopard rob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170936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Appearance…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35040" y="1980720"/>
            <a:ext cx="4788000" cy="748044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2712"/>
                </a:solidFill>
                <a:latin typeface="Arial Bold"/>
                <a:ea typeface="Arial Bold"/>
              </a:rPr>
              <a:t>Men AND women BOTH: Wore Eyeshadow </a:t>
            </a:r>
            <a:r>
              <a:rPr b="0" lang="en-US" sz="5600" spc="-1" strike="noStrike">
                <a:solidFill>
                  <a:srgbClr val="ff2712"/>
                </a:solidFill>
                <a:latin typeface="ヒラギノ角ゴ ProN W6"/>
                <a:ea typeface="ヒラギノ角ゴ ProN W6"/>
              </a:rPr>
              <a:t>	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7226280" y="1511280"/>
            <a:ext cx="5473800" cy="6718320"/>
          </a:xfrm>
          <a:prstGeom prst="rect">
            <a:avLst/>
          </a:prstGeom>
          <a:ln w="0">
            <a:noFill/>
          </a:ln>
        </p:spPr>
      </p:pic>
      <p:sp>
        <p:nvSpPr>
          <p:cNvPr id="414" name="Freeform 4"/>
          <p:cNvSpPr/>
          <p:nvPr/>
        </p:nvSpPr>
        <p:spPr>
          <a:xfrm>
            <a:off x="7655040" y="2982960"/>
            <a:ext cx="1860480" cy="846000"/>
          </a:xfrm>
          <a:custGeom>
            <a:avLst/>
            <a:gdLst/>
            <a:ahLst/>
            <a:rect l="l" t="t" r="r" b="b"/>
            <a:pathLst>
              <a:path w="20691" h="21157">
                <a:moveTo>
                  <a:pt x="18136" y="20648"/>
                </a:moveTo>
                <a:cubicBezTo>
                  <a:pt x="17558" y="19800"/>
                  <a:pt x="16981" y="18782"/>
                  <a:pt x="16529" y="17538"/>
                </a:cubicBezTo>
                <a:cubicBezTo>
                  <a:pt x="16127" y="16407"/>
                  <a:pt x="16127" y="15785"/>
                  <a:pt x="15624" y="14937"/>
                </a:cubicBezTo>
                <a:cubicBezTo>
                  <a:pt x="15172" y="14202"/>
                  <a:pt x="14695" y="13580"/>
                  <a:pt x="14243" y="12902"/>
                </a:cubicBezTo>
                <a:cubicBezTo>
                  <a:pt x="13665" y="12053"/>
                  <a:pt x="12862" y="12562"/>
                  <a:pt x="12184" y="12393"/>
                </a:cubicBezTo>
                <a:cubicBezTo>
                  <a:pt x="10350" y="12562"/>
                  <a:pt x="8491" y="12619"/>
                  <a:pt x="6658" y="12902"/>
                </a:cubicBezTo>
                <a:cubicBezTo>
                  <a:pt x="6256" y="12958"/>
                  <a:pt x="5854" y="12958"/>
                  <a:pt x="5503" y="13410"/>
                </a:cubicBezTo>
                <a:cubicBezTo>
                  <a:pt x="5277" y="13693"/>
                  <a:pt x="5226" y="14428"/>
                  <a:pt x="5050" y="14937"/>
                </a:cubicBezTo>
                <a:cubicBezTo>
                  <a:pt x="4548" y="16351"/>
                  <a:pt x="3945" y="16973"/>
                  <a:pt x="3217" y="17538"/>
                </a:cubicBezTo>
                <a:cubicBezTo>
                  <a:pt x="2614" y="17369"/>
                  <a:pt x="1961" y="17538"/>
                  <a:pt x="1384" y="17029"/>
                </a:cubicBezTo>
                <a:cubicBezTo>
                  <a:pt x="1132" y="16803"/>
                  <a:pt x="1132" y="15898"/>
                  <a:pt x="931" y="15446"/>
                </a:cubicBezTo>
                <a:cubicBezTo>
                  <a:pt x="730" y="14994"/>
                  <a:pt x="454" y="14767"/>
                  <a:pt x="228" y="14428"/>
                </a:cubicBezTo>
                <a:cubicBezTo>
                  <a:pt x="153" y="13919"/>
                  <a:pt x="-23" y="13410"/>
                  <a:pt x="2" y="12902"/>
                </a:cubicBezTo>
                <a:cubicBezTo>
                  <a:pt x="253" y="5438"/>
                  <a:pt x="404" y="8604"/>
                  <a:pt x="2288" y="5155"/>
                </a:cubicBezTo>
                <a:cubicBezTo>
                  <a:pt x="4071" y="1932"/>
                  <a:pt x="4799" y="2045"/>
                  <a:pt x="7110" y="1536"/>
                </a:cubicBezTo>
                <a:cubicBezTo>
                  <a:pt x="9571" y="-443"/>
                  <a:pt x="7763" y="-160"/>
                  <a:pt x="12184" y="462"/>
                </a:cubicBezTo>
                <a:cubicBezTo>
                  <a:pt x="14168" y="1932"/>
                  <a:pt x="11706" y="-160"/>
                  <a:pt x="13314" y="2045"/>
                </a:cubicBezTo>
                <a:cubicBezTo>
                  <a:pt x="14293" y="3402"/>
                  <a:pt x="15599" y="2837"/>
                  <a:pt x="16755" y="3063"/>
                </a:cubicBezTo>
                <a:cubicBezTo>
                  <a:pt x="17433" y="3572"/>
                  <a:pt x="17709" y="3459"/>
                  <a:pt x="18136" y="5155"/>
                </a:cubicBezTo>
                <a:cubicBezTo>
                  <a:pt x="19116" y="9056"/>
                  <a:pt x="17960" y="7643"/>
                  <a:pt x="19291" y="8774"/>
                </a:cubicBezTo>
                <a:cubicBezTo>
                  <a:pt x="20623" y="11714"/>
                  <a:pt x="20271" y="10187"/>
                  <a:pt x="20673" y="12902"/>
                </a:cubicBezTo>
                <a:cubicBezTo>
                  <a:pt x="20447" y="20931"/>
                  <a:pt x="21577" y="21157"/>
                  <a:pt x="18362" y="21157"/>
                </a:cubicBezTo>
                <a:cubicBezTo>
                  <a:pt x="18262" y="21157"/>
                  <a:pt x="18211" y="20818"/>
                  <a:pt x="18136" y="20648"/>
                </a:cubicBezTo>
                <a:close/>
                <a:moveTo>
                  <a:pt x="18136" y="20648"/>
                </a:move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5"/>
          <p:cNvSpPr/>
          <p:nvPr/>
        </p:nvSpPr>
        <p:spPr>
          <a:xfrm>
            <a:off x="10509120" y="2982960"/>
            <a:ext cx="1687680" cy="885600"/>
          </a:xfrm>
          <a:custGeom>
            <a:avLst/>
            <a:gdLst/>
            <a:ahLst/>
            <a:rect l="l" t="t" r="r" b="b"/>
            <a:pathLst>
              <a:path w="20830" h="18434">
                <a:moveTo>
                  <a:pt x="932" y="17145"/>
                </a:moveTo>
                <a:cubicBezTo>
                  <a:pt x="1546" y="16157"/>
                  <a:pt x="1993" y="15310"/>
                  <a:pt x="2467" y="14134"/>
                </a:cubicBezTo>
                <a:cubicBezTo>
                  <a:pt x="2970" y="11451"/>
                  <a:pt x="4170" y="11687"/>
                  <a:pt x="5286" y="9804"/>
                </a:cubicBezTo>
                <a:cubicBezTo>
                  <a:pt x="8802" y="10087"/>
                  <a:pt x="10142" y="9945"/>
                  <a:pt x="12932" y="11122"/>
                </a:cubicBezTo>
                <a:cubicBezTo>
                  <a:pt x="15835" y="12345"/>
                  <a:pt x="12458" y="10557"/>
                  <a:pt x="15751" y="12392"/>
                </a:cubicBezTo>
                <a:cubicBezTo>
                  <a:pt x="16002" y="12534"/>
                  <a:pt x="16504" y="12816"/>
                  <a:pt x="16504" y="12816"/>
                </a:cubicBezTo>
                <a:cubicBezTo>
                  <a:pt x="16672" y="13098"/>
                  <a:pt x="16783" y="13522"/>
                  <a:pt x="17007" y="13710"/>
                </a:cubicBezTo>
                <a:cubicBezTo>
                  <a:pt x="17481" y="14134"/>
                  <a:pt x="18542" y="14557"/>
                  <a:pt x="18542" y="14557"/>
                </a:cubicBezTo>
                <a:cubicBezTo>
                  <a:pt x="18877" y="14416"/>
                  <a:pt x="19295" y="14510"/>
                  <a:pt x="19574" y="14134"/>
                </a:cubicBezTo>
                <a:cubicBezTo>
                  <a:pt x="20049" y="13475"/>
                  <a:pt x="19742" y="11969"/>
                  <a:pt x="20077" y="11122"/>
                </a:cubicBezTo>
                <a:cubicBezTo>
                  <a:pt x="20244" y="10698"/>
                  <a:pt x="20579" y="10557"/>
                  <a:pt x="20830" y="10275"/>
                </a:cubicBezTo>
                <a:cubicBezTo>
                  <a:pt x="20607" y="7687"/>
                  <a:pt x="20802" y="6510"/>
                  <a:pt x="19574" y="5098"/>
                </a:cubicBezTo>
                <a:cubicBezTo>
                  <a:pt x="18123" y="1522"/>
                  <a:pt x="20021" y="5851"/>
                  <a:pt x="18290" y="2934"/>
                </a:cubicBezTo>
                <a:cubicBezTo>
                  <a:pt x="18067" y="2557"/>
                  <a:pt x="18039" y="1992"/>
                  <a:pt x="17788" y="1663"/>
                </a:cubicBezTo>
                <a:cubicBezTo>
                  <a:pt x="17370" y="1098"/>
                  <a:pt x="16756" y="1098"/>
                  <a:pt x="16253" y="769"/>
                </a:cubicBezTo>
                <a:cubicBezTo>
                  <a:pt x="11928" y="957"/>
                  <a:pt x="7156" y="-1584"/>
                  <a:pt x="3249" y="1663"/>
                </a:cubicBezTo>
                <a:cubicBezTo>
                  <a:pt x="2495" y="2275"/>
                  <a:pt x="2077" y="3310"/>
                  <a:pt x="1183" y="3781"/>
                </a:cubicBezTo>
                <a:cubicBezTo>
                  <a:pt x="821" y="6369"/>
                  <a:pt x="1044" y="5004"/>
                  <a:pt x="430" y="8110"/>
                </a:cubicBezTo>
                <a:cubicBezTo>
                  <a:pt x="346" y="8534"/>
                  <a:pt x="179" y="9381"/>
                  <a:pt x="179" y="9381"/>
                </a:cubicBezTo>
                <a:cubicBezTo>
                  <a:pt x="430" y="18369"/>
                  <a:pt x="-770" y="20016"/>
                  <a:pt x="932" y="17145"/>
                </a:cubicBezTo>
                <a:close/>
                <a:moveTo>
                  <a:pt x="932" y="17145"/>
                </a:move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6"/>
          <p:cNvSpPr/>
          <p:nvPr/>
        </p:nvSpPr>
        <p:spPr>
          <a:xfrm>
            <a:off x="7532640" y="3720960"/>
            <a:ext cx="1798560" cy="252720"/>
          </a:xfrm>
          <a:custGeom>
            <a:avLst/>
            <a:gdLst/>
            <a:ahLst/>
            <a:rect l="l" t="t" r="r" b="b"/>
            <a:pathLst>
              <a:path w="21600" h="21053">
                <a:moveTo>
                  <a:pt x="21600" y="15892"/>
                </a:moveTo>
                <a:cubicBezTo>
                  <a:pt x="19185" y="16465"/>
                  <a:pt x="16770" y="16274"/>
                  <a:pt x="14382" y="17612"/>
                </a:cubicBezTo>
                <a:cubicBezTo>
                  <a:pt x="13866" y="17995"/>
                  <a:pt x="12917" y="21053"/>
                  <a:pt x="12917" y="21053"/>
                </a:cubicBezTo>
                <a:cubicBezTo>
                  <a:pt x="11750" y="20480"/>
                  <a:pt x="10583" y="20288"/>
                  <a:pt x="9443" y="19333"/>
                </a:cubicBezTo>
                <a:cubicBezTo>
                  <a:pt x="8602" y="18568"/>
                  <a:pt x="7978" y="13980"/>
                  <a:pt x="7191" y="12260"/>
                </a:cubicBezTo>
                <a:cubicBezTo>
                  <a:pt x="5536" y="4423"/>
                  <a:pt x="4233" y="4996"/>
                  <a:pt x="2225" y="3658"/>
                </a:cubicBezTo>
                <a:cubicBezTo>
                  <a:pt x="516" y="-547"/>
                  <a:pt x="1275" y="26"/>
                  <a:pt x="0" y="26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7"/>
          <p:cNvSpPr/>
          <p:nvPr/>
        </p:nvSpPr>
        <p:spPr>
          <a:xfrm>
            <a:off x="10609200" y="3703680"/>
            <a:ext cx="1900440" cy="268200"/>
          </a:xfrm>
          <a:custGeom>
            <a:avLst/>
            <a:gdLst/>
            <a:ahLst/>
            <a:rect l="l" t="t" r="r" b="b"/>
            <a:pathLst>
              <a:path w="18808" h="20667">
                <a:moveTo>
                  <a:pt x="0" y="16026"/>
                </a:moveTo>
                <a:cubicBezTo>
                  <a:pt x="6299" y="21426"/>
                  <a:pt x="-2792" y="21600"/>
                  <a:pt x="11236" y="19161"/>
                </a:cubicBezTo>
                <a:cubicBezTo>
                  <a:pt x="11816" y="16200"/>
                  <a:pt x="12241" y="12019"/>
                  <a:pt x="12866" y="9581"/>
                </a:cubicBezTo>
                <a:cubicBezTo>
                  <a:pt x="13157" y="8535"/>
                  <a:pt x="14028" y="6968"/>
                  <a:pt x="14296" y="6445"/>
                </a:cubicBezTo>
                <a:cubicBezTo>
                  <a:pt x="15860" y="2961"/>
                  <a:pt x="17133" y="0"/>
                  <a:pt x="18808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8" descr=""/>
          <p:cNvPicPr/>
          <p:nvPr/>
        </p:nvPicPr>
        <p:blipFill>
          <a:blip r:embed="rId2"/>
          <a:stretch/>
        </p:blipFill>
        <p:spPr>
          <a:xfrm>
            <a:off x="6934320" y="6381720"/>
            <a:ext cx="6070320" cy="3371760"/>
          </a:xfrm>
          <a:prstGeom prst="rect">
            <a:avLst/>
          </a:prstGeom>
          <a:ln w="0">
            <a:noFill/>
          </a:ln>
        </p:spPr>
      </p:pic>
      <p:sp>
        <p:nvSpPr>
          <p:cNvPr id="419" name="Freeform 9"/>
          <p:cNvSpPr/>
          <p:nvPr/>
        </p:nvSpPr>
        <p:spPr>
          <a:xfrm>
            <a:off x="7616880" y="3478320"/>
            <a:ext cx="1650960" cy="390240"/>
          </a:xfrm>
          <a:custGeom>
            <a:avLst/>
            <a:gdLst/>
            <a:ahLst/>
            <a:rect l="l" t="t" r="r" b="b"/>
            <a:pathLst>
              <a:path w="21600" h="17537">
                <a:moveTo>
                  <a:pt x="21600" y="17537"/>
                </a:moveTo>
                <a:cubicBezTo>
                  <a:pt x="20359" y="11118"/>
                  <a:pt x="18616" y="5107"/>
                  <a:pt x="16754" y="828"/>
                </a:cubicBezTo>
                <a:cubicBezTo>
                  <a:pt x="13504" y="2050"/>
                  <a:pt x="8303" y="-4063"/>
                  <a:pt x="6471" y="5412"/>
                </a:cubicBezTo>
                <a:cubicBezTo>
                  <a:pt x="5851" y="11933"/>
                  <a:pt x="6471" y="10405"/>
                  <a:pt x="5112" y="11933"/>
                </a:cubicBezTo>
                <a:cubicBezTo>
                  <a:pt x="177" y="11016"/>
                  <a:pt x="1891" y="11016"/>
                  <a:pt x="0" y="11016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0"/>
          <p:cNvSpPr/>
          <p:nvPr/>
        </p:nvSpPr>
        <p:spPr>
          <a:xfrm>
            <a:off x="10631520" y="3519360"/>
            <a:ext cx="1898640" cy="292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259" y="16031"/>
                  <a:pt x="2209" y="8269"/>
                  <a:pt x="3031" y="0"/>
                </a:cubicBezTo>
                <a:cubicBezTo>
                  <a:pt x="5933" y="506"/>
                  <a:pt x="8835" y="506"/>
                  <a:pt x="11737" y="1519"/>
                </a:cubicBezTo>
                <a:cubicBezTo>
                  <a:pt x="12405" y="1688"/>
                  <a:pt x="12585" y="4388"/>
                  <a:pt x="13150" y="6075"/>
                </a:cubicBezTo>
                <a:cubicBezTo>
                  <a:pt x="13587" y="7425"/>
                  <a:pt x="14537" y="9281"/>
                  <a:pt x="14537" y="9281"/>
                </a:cubicBezTo>
                <a:cubicBezTo>
                  <a:pt x="16386" y="20756"/>
                  <a:pt x="19186" y="12319"/>
                  <a:pt x="21600" y="12319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ppearance Continued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712"/>
                </a:solidFill>
                <a:latin typeface="Arial Bold"/>
                <a:ea typeface="Arial Bold"/>
              </a:rPr>
              <a:t>ONLY Men: No Face 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712"/>
                </a:solidFill>
                <a:latin typeface="Arial Bold"/>
                <a:ea typeface="Arial Bold"/>
              </a:rPr>
              <a:t>ONLY Women: Hair down to Shou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712"/>
                </a:solidFill>
                <a:latin typeface="Arial Bold"/>
                <a:ea typeface="Arial Bold"/>
              </a:rPr>
              <a:t>ONLY Wom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712"/>
                </a:solidFill>
                <a:latin typeface="Arial Bold"/>
                <a:ea typeface="Arial Bold"/>
              </a:rPr>
              <a:t>Scented Fat 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2712"/>
                </a:solidFill>
                <a:latin typeface="Arial Bold"/>
                <a:ea typeface="Arial Bold"/>
              </a:rPr>
              <a:t>hea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old"/>
                <a:ea typeface="Arial Bold"/>
              </a:rPr>
              <a:t>Wh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1"/>
          <a:stretch/>
        </p:blipFill>
        <p:spPr>
          <a:xfrm>
            <a:off x="5524560" y="4114800"/>
            <a:ext cx="7149960" cy="53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44fe"/>
                </a:solidFill>
                <a:latin typeface="Arial"/>
              </a:rPr>
              <a:t>Women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616440" y="2273400"/>
            <a:ext cx="574020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gyptian wife and mother were respected in this ancient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wives and mothers of pharaohs were secretly the "real" ruling power i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ers did not know abou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"/>
              </a:rPr>
              <a:t>Were treated equally as men in many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"/>
              </a:rPr>
              <a:t>Owned land, took part in business d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"/>
              </a:rPr>
              <a:t>Punished the same way as men 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en Hatshepsut was the only woman who stood out of the line when she announced herself pharao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1"/>
          <a:stretch/>
        </p:blipFill>
        <p:spPr>
          <a:xfrm>
            <a:off x="1044720" y="2008080"/>
            <a:ext cx="4979880" cy="6042240"/>
          </a:xfrm>
          <a:prstGeom prst="rect">
            <a:avLst/>
          </a:prstGeom>
          <a:ln w="50760">
            <a:solidFill>
              <a:srgbClr val="808080"/>
            </a:solidFill>
            <a:miter/>
          </a:ln>
        </p:spPr>
      </p:pic>
      <p:sp>
        <p:nvSpPr>
          <p:cNvPr id="427" name="Rectangle 4"/>
          <p:cNvSpPr/>
          <p:nvPr/>
        </p:nvSpPr>
        <p:spPr>
          <a:xfrm>
            <a:off x="665280" y="8358120"/>
            <a:ext cx="5765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statue of QueenHatshepsut. Displayed at the Metropolitian Museum of Ar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 15: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g 16: Daily Life 1 c-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10650600" y="8881920"/>
            <a:ext cx="368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C8C9-B150-4DA7-BB76-775309ADD2C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47640" y="390240"/>
            <a:ext cx="11709360" cy="162540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44fe"/>
                </a:solidFill>
                <a:latin typeface="Arial"/>
              </a:rPr>
              <a:t>Children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603840" y="1701720"/>
            <a:ext cx="5740560" cy="7680240"/>
          </a:xfrm>
          <a:prstGeom prst="rect">
            <a:avLst/>
          </a:prstGeom>
          <a:noFill/>
          <a:ln w="0">
            <a:noFill/>
          </a:ln>
        </p:spPr>
        <p:txBody>
          <a:bodyPr lIns="12600" rIns="-5760" tIns="12600" bIns="12600" anchor="t">
            <a:normAutofit/>
          </a:bodyPr>
          <a:p>
            <a:pPr marL="407880" indent="-34272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0b00"/>
                </a:solidFill>
                <a:latin typeface="Arial"/>
              </a:rPr>
              <a:t>Boys learned a job from their fa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0b00"/>
                </a:solidFill>
                <a:latin typeface="Arial"/>
              </a:rPr>
              <a:t>Girls trained at home with their m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80000"/>
              </a:lnSpc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90b00"/>
                </a:solidFill>
                <a:latin typeface="Arial"/>
              </a:rPr>
              <a:t>Families that could afford sent their sons (age 7) to school</a:t>
            </a:r>
            <a:r>
              <a:rPr b="0" lang="en-US" sz="2200" spc="-1" strike="noStrike">
                <a:solidFill>
                  <a:srgbClr val="fe494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would study religion, reading, writing, and arithmetic t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07880" indent="-342720">
              <a:lnSpc>
                <a:spcPct val="80000"/>
              </a:lnSpc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2712"/>
                </a:solidFill>
                <a:latin typeface="Arial"/>
              </a:rPr>
              <a:t>no schools for gi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3" descr=""/>
          <p:cNvPicPr/>
          <p:nvPr/>
        </p:nvPicPr>
        <p:blipFill>
          <a:blip r:embed="rId1"/>
          <a:stretch/>
        </p:blipFill>
        <p:spPr>
          <a:xfrm>
            <a:off x="355680" y="3033720"/>
            <a:ext cx="5783040" cy="38178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4"/>
          <p:cNvSpPr/>
          <p:nvPr/>
        </p:nvSpPr>
        <p:spPr>
          <a:xfrm>
            <a:off x="561960" y="7027920"/>
            <a:ext cx="529596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everybody could afford expensive toys. Clay was formed into dolls, toy animals and other play things because it was available from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his is a clay c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93760" y="329760"/>
            <a:ext cx="11049120" cy="208908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aily Life of Ancient Egyp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863640" y="2487600"/>
            <a:ext cx="1133784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108720" tIns="50760" bIns="50760" anchor="ctr">
            <a:noAutofit/>
          </a:bodyPr>
          <a:p>
            <a:pPr marL="6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spcBef>
                <a:spcPts val="1100"/>
              </a:spcBef>
              <a:buClr>
                <a:srgbClr val="003d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Life in Ancient Egypt Centered aroun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330120" y="3137040"/>
            <a:ext cx="4734000" cy="3547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"/>
          <p:cNvPicPr/>
          <p:nvPr/>
        </p:nvPicPr>
        <p:blipFill>
          <a:blip r:embed="rId2"/>
          <a:stretch/>
        </p:blipFill>
        <p:spPr>
          <a:xfrm>
            <a:off x="7264440" y="2921040"/>
            <a:ext cx="5337000" cy="41036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"/>
          <p:cNvPicPr/>
          <p:nvPr/>
        </p:nvPicPr>
        <p:blipFill>
          <a:blip r:embed="rId3"/>
          <a:stretch/>
        </p:blipFill>
        <p:spPr>
          <a:xfrm>
            <a:off x="4229280" y="5689440"/>
            <a:ext cx="4063680" cy="406404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6"/>
          <p:cNvSpPr/>
          <p:nvPr/>
        </p:nvSpPr>
        <p:spPr>
          <a:xfrm>
            <a:off x="9867960" y="6934320"/>
            <a:ext cx="3187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90b00"/>
                </a:solidFill>
                <a:latin typeface="Arial"/>
                <a:ea typeface="Arial"/>
              </a:rPr>
              <a:t>Pharaoh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1270080" y="6794640"/>
            <a:ext cx="3187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spcBef>
                <a:spcPts val="3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90b00"/>
                </a:solidFill>
                <a:latin typeface="Arial"/>
                <a:ea typeface="Arial"/>
              </a:rPr>
              <a:t>Famil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65280" y="0"/>
            <a:ext cx="11709360" cy="162576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Arial"/>
              </a:rPr>
              <a:t>Family Lif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791040" y="1929960"/>
            <a:ext cx="5753160" cy="748044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loved thei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</a:rPr>
              <a:t>lower class= mother raised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Arial"/>
              </a:rPr>
              <a:t>wealthy families= slaves, servants that assisted m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family could not have children, they would pray to the gods all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Arial"/>
              </a:rPr>
              <a:t>They would also use magic to try to get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uld also adopt if they wanted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879480" y="1600200"/>
            <a:ext cx="5613480" cy="73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9880" y="372960"/>
            <a:ext cx="11709720" cy="171144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Peasant Life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4480" y="1625760"/>
            <a:ext cx="4114800" cy="35179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544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 Bold"/>
                <a:ea typeface="Arial Bold"/>
              </a:rPr>
              <a:t>Farm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4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b00"/>
                </a:solidFill>
                <a:latin typeface="Arial Bold"/>
                <a:ea typeface="Arial Bold"/>
              </a:rPr>
              <a:t>Grain makes B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4038480" y="1714680"/>
            <a:ext cx="355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2712"/>
                </a:solidFill>
                <a:latin typeface="Arial Bold"/>
                <a:ea typeface="Arial Bold"/>
              </a:rPr>
              <a:t>Diet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44680" indent="-487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2712"/>
                </a:solidFill>
                <a:latin typeface="Arial Bold"/>
                <a:ea typeface="Arial Bold"/>
              </a:rPr>
              <a:t>Veggies and Gra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8763120" y="1778040"/>
            <a:ext cx="355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44680" indent="-4874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90b00"/>
                </a:solidFill>
                <a:latin typeface="Arial Bold"/>
                <a:ea typeface="Arial Bold"/>
              </a:rPr>
              <a:t>Heavy-Tax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0" y="3746520"/>
            <a:ext cx="4229280" cy="5143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"/>
          <p:cNvPicPr/>
          <p:nvPr/>
        </p:nvPicPr>
        <p:blipFill>
          <a:blip r:embed="rId2"/>
          <a:stretch/>
        </p:blipFill>
        <p:spPr>
          <a:xfrm>
            <a:off x="4013280" y="6040440"/>
            <a:ext cx="4949640" cy="3713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"/>
          <p:cNvPicPr/>
          <p:nvPr/>
        </p:nvPicPr>
        <p:blipFill>
          <a:blip r:embed="rId3"/>
          <a:stretch/>
        </p:blipFill>
        <p:spPr>
          <a:xfrm>
            <a:off x="4254480" y="3606840"/>
            <a:ext cx="3805200" cy="2525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"/>
          <p:cNvPicPr/>
          <p:nvPr/>
        </p:nvPicPr>
        <p:blipFill>
          <a:blip r:embed="rId4"/>
          <a:stretch/>
        </p:blipFill>
        <p:spPr>
          <a:xfrm>
            <a:off x="8242200" y="2817720"/>
            <a:ext cx="4762440" cy="465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44fe"/>
                </a:solidFill>
                <a:latin typeface="Lucida Grande"/>
                <a:ea typeface="Lucida Grande"/>
              </a:rPr>
              <a:t>Homes of Ancient Egypt</a:t>
            </a:r>
            <a:r>
              <a:rPr b="0" lang="en-US" sz="6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863640" y="4546440"/>
            <a:ext cx="5423040" cy="40640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6718320" y="4546440"/>
            <a:ext cx="5854680" cy="35323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4"/>
          <p:cNvSpPr/>
          <p:nvPr/>
        </p:nvSpPr>
        <p:spPr>
          <a:xfrm>
            <a:off x="1306440" y="2755800"/>
            <a:ext cx="109872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d90b00"/>
                </a:solidFill>
                <a:latin typeface="Arial Bold"/>
                <a:ea typeface="Arial Bold"/>
              </a:rPr>
              <a:t>Straw and Mud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Homes Continued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47640" y="2273040"/>
            <a:ext cx="1170936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ize: Hug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Roofs: Flat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Unique Doors: 4 feet off the ground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y??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3681360" y="5956200"/>
            <a:ext cx="9361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Reduce sand and water from coming into your house from the Ni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7640" y="129960"/>
            <a:ext cx="11709360" cy="214452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More about Homes…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47640" y="2273400"/>
            <a:ext cx="11709360" cy="7480080"/>
          </a:xfrm>
          <a:prstGeom prst="rect">
            <a:avLst/>
          </a:prstGeom>
          <a:noFill/>
          <a:ln w="0">
            <a:noFill/>
          </a:ln>
        </p:spPr>
        <p:txBody>
          <a:bodyPr lIns="50760" rIns="648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Homes of the Nobles: 25-30 ro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Homes of the Peasants: Small but N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Unique Sleeping: Slept on Roo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y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How Big were Homes? </a:t>
            </a:r>
            <a:r>
              <a:rPr b="1" lang="en-US" sz="44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As big as you wanted. Easy to get materia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365640" y="4991040"/>
            <a:ext cx="88264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t">
            <a:noAutofit/>
          </a:bodyPr>
          <a:p>
            <a:pPr marL="572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 Bold"/>
                <a:ea typeface="Arial Bold"/>
              </a:rPr>
              <a:t>Cooler Temperatu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yler Daughtry</cp:lastModifiedBy>
  <dcterms:modified xsi:type="dcterms:W3CDTF">2013-10-10T14:57:42Z</dcterms:modified>
  <cp:revision>7</cp:revision>
  <dc:subject/>
  <dc:title>Bell Ringer: 10-8</dc:title>
</cp:coreProperties>
</file>